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6A2-0C9F-4CA5-B687-F01D4C1B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BC1-9D8D-424A-A62C-022045D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65FA-48B5-459F-A8C1-5E6F2AEF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A4F9-0A16-46E7-9304-5BC9BE78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0F7B6-DC6D-4092-911B-DF79EFF3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162D-BB7F-4919-84A4-5DF8FBD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FAF1-594E-44C6-A0F1-8A9DDB6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A2996-CE53-4AB1-889C-2EEB492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0104-36E0-4C25-B89C-33D8C24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47DD7-170A-4197-B5E5-71428288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7227-D8F0-429C-9233-843239EC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6B0-D3EA-41AC-AA55-13B09A24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A24-37D7-441A-A483-AE175537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A477-44EF-4051-B629-993A2F94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FA5CE-E88D-4AB5-8465-3D3E2B39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0BD3-E7E4-498E-92B0-F4A7F7B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6D01C-870A-4855-A2B8-6D8D72BA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258C6-F590-48AA-B9C5-F9368F8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6CD79-29ED-44A4-9E04-B60B6E1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67C4B-C815-4D55-9D5A-A27163C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BA88-F212-4ACA-B6D6-E469D481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383F-201D-4930-8AE5-A8823749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11E3-5A6E-4C04-804F-63BA97F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78FA-7A73-4F91-91BA-CC4D4E24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9CF1-CF58-4128-985D-F4BCFF4F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D6B7-8933-43A7-9AFC-709A5C7F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58DFD-28B5-4AC0-AEB6-ECC40F17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BCB2E-BB13-485E-9454-6B911180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7F35-C64E-43F9-8EBD-10322BA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CB0C-1DDA-4574-9D85-A6B2748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90041-BD4E-4695-8E92-7EE8CDE2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97EB4-AE2A-448F-AB3F-E3915E9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143F-D76E-487A-87DB-AD6CFD0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C8257-8A65-4C05-9848-FBD4B93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F310B-4174-4B37-93D3-66AD4576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883F-8B8F-429B-96B4-61119F0E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3027-FD31-4630-88AC-63D6768C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6A6FA-E7E4-4BDA-99AC-A4070861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25D12-FA5F-419C-801D-104DAEB3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B7B2D-371E-440A-B4F1-64A703A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A269-929B-4DEC-80C1-E3A31867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A66E3-A14F-48B1-9BF9-B0A1829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2B6FE-F10F-43BC-8B69-C28E29C9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A0C5D-A4CF-4419-A079-BF994E1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657F5-D5B5-4B53-B365-EE52F301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E2781-BF54-47A7-92C8-5D8B519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D25E-0AFA-4BAF-BE81-5A5A1A9E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75BD-7A0E-4245-B087-E76029C7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80C1B-891B-4F80-A618-E96AB26E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1E338-45D5-4767-B820-8D49700F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A0835-20A4-40F9-8FF4-D8399AE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72301-552F-448F-9054-F8BF1E32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D6E59-1BF2-4FB8-A7A1-60CAD556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A6A12-8985-44CE-BEAE-7426EAA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9EF6E-C79A-46B6-8767-7E4D646E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7DE19-E0DE-41E0-AF2D-DC23EF3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BDEA-B2FF-4A2E-8D8D-E5C2F04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E8D56-D032-4B80-8C73-DE347FA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55C83-A6F2-4490-A3A5-F824AE3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95483-E23C-4D11-97EA-7262B6AE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BB8AA-BD3F-4513-B1A0-C2EC92A8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1150A-CE0B-492A-94A8-694C2C9C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B73BD-3D46-4989-A40B-19C6185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A585B-AF7F-4667-B303-5E8A1D69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6360A-F6AE-4D8B-945A-8992414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80A1F-D57B-4600-95B3-73A6DFA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A06E5-9095-4B05-8464-42CFE89A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9B44F-9BAD-4720-B291-6E4126C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63B17-5129-416A-946E-309C7C8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90D9-D5CE-4523-88AD-29F62CE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36BEE-32BA-4AD2-A8D0-E68D7FF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B8063-B43D-43A0-B033-6CDB9D23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F19ED-BF33-45EA-905F-8965B8E4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346E2-AA3F-4787-98AF-50F8276B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9D255-ACEA-4101-978A-94A114EE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93180-45F4-48F0-8549-7B071149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8066A-8E42-4DCE-8A3A-2490E255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8C530-5993-4D2A-A90D-6C01E99C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632B6-B843-4EA6-82EA-26A53B2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86A58-C583-4F64-811F-734B713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FCB-FAA5-4780-8CC9-E0ABA42B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31B60-A210-4136-912E-1738801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7408-4BA4-4923-BEA5-2B3F8B8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73C9F-62EA-443E-B92F-390746A4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68F7-B958-45DD-8D1A-39413116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0E08C-D824-4DE6-9FA5-A276FC29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8B4D7-2E06-4F84-855F-C773D141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2F92E-B50A-41AB-9992-8F8096C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DF0D9-CF45-49CA-B12B-3BECCA8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E5A9E-F137-4751-8F62-1A18BAD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97CB2-1A22-4DA2-A770-00DF248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7CCFC-4844-4B58-8DB0-6253F2C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7E95F-586D-4C42-BF3A-418B114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0C853-AEEE-40E9-B397-9FC544CD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12FB3-1CDE-487F-9607-6CBD0E6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A4C0F-DED0-4E52-9D42-BAE8F8E4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63766-AC1D-4AA4-A8CE-7399F788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4DEE8-0E23-4CAB-B049-B42F09E2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B3680-9224-4EA9-B8A7-67AE9009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69E27-8B1A-40B2-BF3E-205830C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CB9D4-13C1-48F9-9086-584E76D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6A50E-BC0F-4FBE-B771-1C9F4AE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47CFC-B635-4ADD-87C9-61F9172A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7B59C-718A-4CE4-A53F-E224948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89E87-9672-45E9-8E80-6AF23EA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6237D-D1DA-4001-A21E-CAFD373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8C909-707E-4C48-ADD0-371FD4EF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910F3-5425-4AF4-B3AF-8C1674EA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AC1A0-8422-48B1-9D47-874D6AC1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E5543-6D09-460E-9AC3-4057D153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A8948-BA94-45A8-9D4B-56B8C4B4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AF0CA-FEB9-41E4-8F8F-B6995317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E7A96-AE05-499B-8E15-C7AEC6C3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2A965-EE2A-48EB-B558-3B53DF87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196B7-2D0B-437D-8BC6-06AAD8A3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F0386-D9C9-4814-AB38-294F5FF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CC378-A274-42AA-A650-0AAD77FC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F4C1C-581D-4BC9-85DE-8634FF09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CF80E-B72D-463F-9D7E-9D19953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001FF-8B14-48A6-8428-3B5F0E34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452ED-9345-4DBA-B852-35925C84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33235-825A-4709-B457-82CA2207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16324-B1D6-4F85-ACD8-0414E9E3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EF691-1126-485B-94D2-DF90E9D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C4F24-3E21-4E7E-A202-BD0C05C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7B166-B763-4480-B57E-022DBEED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2AB73-CE1D-4F4A-A400-B2BEB0DB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91087-F198-42F6-9004-BA26B195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60FBE-D9FB-4464-B05A-A82E9AEF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890C6-60AB-447A-B2E8-6F0CBD6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12716-9A8F-42FE-B102-9A23F6D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4A5-305F-409C-8C82-ACE423FA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AF97A-7A06-44F4-8097-B5A34E53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CDFBF-18E7-4CC4-BEC3-8D8770BE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1F4F5-9CE9-4A18-85C3-9C610002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6D984-0992-4132-803B-4F407770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76C3B-DAC4-490B-AAAC-2B9CA53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9F528-F30F-4D75-B620-787EEF52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FEA0A-C3EA-47F7-A529-77151DE1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13D5B-6E68-43A6-9761-35EA1CCB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9237C-61C1-4B73-A7DB-91A7D2F7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29E3D-FA7A-4B21-94ED-71177506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2F74-3631-422E-A3FC-80699ED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55905-2EF8-40C6-8345-51AF4A1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AD31D-0591-4B58-8AFB-5CE8EF3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330E4-2FCD-45C5-B27B-CF199FC6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0A11C-7F9C-4436-AFED-588A868C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55324-4631-4A60-B674-991D7597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FC122-A4E9-47EE-81D7-5649B853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3BE0B-D824-4238-B68D-32C3AD6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1BB4D-2979-48DD-9FD2-3A75295B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0F872-26D5-441A-9847-C49FDDDB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9C30B-61F5-42B4-9AE4-BDAA6EA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E09-8098-4452-831B-9575A9BC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30511-D6C7-4BF3-8F1C-26CAC005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1F263-7A47-4BC0-859C-AD7FBE85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2B9CD-3A12-4632-9835-ECEB264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C8571-8425-40D7-93B0-137753C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051D2-3883-42A8-9435-4A0B19E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C7A72-DE6D-4846-BC55-F09C09E8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186AA-9917-47E2-9565-1607C71A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E1614-E011-4B02-899E-8FB2D8AD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326CE-C1EC-4F8E-A377-C8D9638A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2546B-9C22-4D5D-8473-1A1B74C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03F8-1727-45D4-8CF8-AE9E3BC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D44B4-C50F-4A74-826A-A65887E2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D1AD3-8061-40B3-95F9-109373E1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A70A3-FA29-4D49-99C8-3FEB4F9C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9EA48-6B46-45A3-B1D5-99EDA64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3FF0D-EFB1-4895-9492-0F43DE5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C68C0-6C5F-4064-82E0-9EA449C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C2068-990C-4424-A68A-0698D8D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16A7A-70CE-4A4F-BFAF-6E878C7E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8F569-7392-4CAF-9C10-EB0B96A5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27EFB-4D5B-4B51-96DA-3284B6D3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F373-3112-4981-841F-9DD104AF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C3619-C0C2-4E31-B96C-11043291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A45AF-206A-4A4C-B681-47D16D8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D7660-2166-40BB-AF45-DA2E8F2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54DCD-AE33-4CA9-A8F0-E69B21B8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91C76-BFD2-4625-82DC-5B27433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F9DED-09ED-420D-A7D2-8A55581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6080A-E58E-4123-A152-E557EA7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EF0C0-6170-400A-B3E3-BDE18CD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C4F63-02DB-48EB-A27C-EC90A95D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C1B2C-57C1-4EED-A9B1-C266C339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7541-0B62-4FB8-9F51-8BDBC833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6D73-D227-47CC-8B0C-DAD00C79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17643-44E6-49D6-814A-372ECB35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B60E1-A5A6-4059-9B22-AD83F3D2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F7E31-A81A-4CA6-82EE-AC52898B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4C694-B33E-4A84-B8A0-71D8E1C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E27CA-2F9D-4CAF-BD8C-245D8415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3A028-6BD1-4D3A-BF5F-24472634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1EE4C-865B-46B0-8728-6AC2BA26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96953-D557-4858-8936-5065F53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FC1B0-52E2-40DA-9FD2-9E21BAB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FAA47-48D8-4579-AD44-8CAC246D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E797-37CD-416E-9BB1-CD17A02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86C64-893A-461B-BD66-FAF0FCE5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4FF679-EF51-441F-8C85-2EB2D239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121060-C3A1-4D43-93DA-5AB7A7AC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139E99-0ADE-486D-BF75-87B3E1E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9F7902-4C3B-4445-B14B-6C110880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DB463-EC76-4478-A057-782987FA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67BA4-5FC3-4A90-A768-ADEC19C9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CC170-3E85-4D61-9D50-2348E3E5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C0C9F-F609-49AE-8EFA-7A8D2042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BF8D2-02AB-4D82-BF9F-21F24FAF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38E-0DD6-46F4-AC7D-15B5A30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CD792-4631-448E-878D-4088E84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8A4A1-2470-4637-BCA8-0615A88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A0261-4D7D-430E-8D35-A5381BAD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E0DFE-70E6-463A-96D2-175993F5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C8694-1601-46CC-A66C-AE616C90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F618B1-6DB5-4C5A-90DB-9105AAAD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DAF7A-4128-494B-9683-D0601924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DE48B2-FBF8-48C8-90D1-CB0B876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B1A3D9-36D4-417F-A671-7DEF6C77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98E877-F497-435A-8AB4-1B3AAA00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0BA0-22E7-49A2-8E8E-1D9103D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27A12-E623-4088-9E8C-72EEF5A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2C6D1-16C8-4D1B-A62B-3E0E05B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1E24C-B1A5-4F81-9607-2F0FF2B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5A84EE-7725-4513-905F-397E4DB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D7B52-E752-402A-BAF9-90B032F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B14D34-0AA8-4139-A7F7-BFFA21B9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49996-9FFC-4869-8325-7EE556CC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75EE43-9710-4E22-82AA-6916DC4A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B53624-5050-4797-9D99-DFC9F0F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A5DD43-F2CA-4FA6-BB2B-E2292F35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EB5-3DD3-41D4-BB2A-D90AF07B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0FFBC-0E75-46E5-8AC0-328FD1E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B02057-D347-4D99-AA81-9838EDC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ED96BA-CAE5-4E22-B755-8745D36C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704CA-1445-4BE0-8FD5-1C4EE9B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7620F7-872E-4C63-9532-A040BF0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B85189-58A5-4774-A3DC-DFD31E4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0CB514-2506-4A19-A72B-680C1ED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EAAFF9-C35A-4DC2-8582-C60F0B3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4E70FC-6636-4267-8B65-F5AB469F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B61829-E255-430C-BC8A-A5715FA5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BC2A-F8F3-4F04-86BA-AC7B2F5D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0DEA5D-FBDA-45D2-894D-0246922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E82718-4F93-49E5-9D8D-29025516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66C918-6361-4795-8B54-66CF80F9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3F3E64-27EE-4C24-83B6-ED8458BA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9F54A-9075-4585-9B9D-9F9DB785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A2FAB8-547D-40C8-9296-3BEC3503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9582E3-C4BA-4456-AFD4-35B7BEE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2B407C-1390-4A26-A42A-8D6A2407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1FA37-8F49-47E3-B617-8DAEAF15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3C0989-C33F-4FB8-8F9E-5E3444B8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B276-31A2-4192-8BE6-E930B396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8E9021-AEE9-4EA5-B298-5B32F1BF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C92-2FC2-4CD4-B802-3549B1EC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7BAF-32C9-4342-A69A-1031A608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A1F-CA16-4D6A-BC6A-F371584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8180-9982-4AE0-9A46-486EFA94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0703-817C-4FB8-8827-F9B2E7DD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7E4A-CCCB-4456-A3DA-AB441EF1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9877-773D-4D1A-BBC6-793E2B81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CA7D-160F-4B9E-B243-59CCF9F2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A1C7-2598-40B5-86C7-FCD19EA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2A6A-EAB5-42E4-A465-FE2E2861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8E22-B2D0-4ACC-B372-1C11F46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147A-5B58-4F85-B15F-DD118B20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9676-6154-4C03-86F4-80825DFC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544-1562-4FF4-9FB2-C3BDB6E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BCA90-52C7-4948-9CF7-434BA610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AA2-9356-45E9-9F0C-3C48983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F463-AD6E-4BC3-AF79-89DFC149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DA72-F66D-4E38-BC27-FEADADE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E233-CEFB-4D05-ACA1-724CEF73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7F19-33D5-4845-BD86-0CC5C29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DDBF-7765-4FF0-8365-FB3E2F28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A022-A150-4100-A6A3-8F81669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A240-9705-4DF6-A6D6-5245841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548-FA4C-425C-B7BF-07355A1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AA746-2DFB-4E5E-92E8-1D3C8D1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D0FA-A0A6-41B5-9672-774A240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C7C5-4918-4DB7-AFB9-7ACA6F0C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81C8-9914-407B-8633-4AE28555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DF97-9951-432B-B26C-B4E75614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83A-CA72-4C2D-B29D-B789E93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0930-E382-4FA1-999E-7C06E706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FAE4-8D0A-4C94-8E12-F697C024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4FB7-B402-4FAB-BE23-34B237D8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1523880" cy="243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6A8-1826-45CE-8939-A7927755048F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955960" cy="44956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7162920" y="5468760"/>
            <a:ext cx="1981080" cy="13892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BB67-6AAD-4DC3-B44A-B86DA771DE8E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0" y="3117960"/>
            <a:ext cx="4672080" cy="3740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9FFF-5234-4936-A326-EEB9825AA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761240" y="2971800"/>
            <a:ext cx="138276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496C-2FE0-414C-9ECD-18F9AF59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1000" cy="3141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0" y="3906720"/>
            <a:ext cx="2971800" cy="276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672240" y="2819520"/>
            <a:ext cx="2471760" cy="403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0D1-63AB-4664-884B-7F0369353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0" y="4083120"/>
            <a:ext cx="2054160" cy="277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5C32-8F9E-4FD8-A98C-EE0B7EB13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0" y="3446640"/>
            <a:ext cx="3657600" cy="341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7651-6B59-4013-82E6-0C5DE0AF0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5791320" y="4222800"/>
            <a:ext cx="3352680" cy="2635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571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4A4-1568-4CA3-A492-792F06219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3159000" cy="4038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5743440" y="1884240"/>
            <a:ext cx="3400560" cy="4973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7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F20-4911-49F3-B472-9F6A9082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4172040" y="5105520"/>
            <a:ext cx="4971960" cy="2130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252440"/>
            <a:ext cx="3822840" cy="5605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4960" y="304920"/>
            <a:ext cx="510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E0C5-28AE-4F4B-B24C-03D32279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4964040" cy="211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4191120" cy="17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409-5727-47CB-9823-D10525E1C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5943600" y="4087800"/>
            <a:ext cx="3200400" cy="277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B240-E2A4-460D-9ACD-0F3C3AE0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3733920" y="1700280"/>
            <a:ext cx="5410080" cy="51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5c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5809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2AB2-7F25-4E05-85D0-22B05C72A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5029200" cy="488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5c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1523880" y="69840"/>
            <a:ext cx="7620120" cy="6788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ECE-FA6D-49D1-AB28-F247E3AA3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4191120" y="3965400"/>
            <a:ext cx="4952880" cy="289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4E8F-DB7A-4BCD-935C-C0E470AC7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0" y="4313160"/>
            <a:ext cx="5562720" cy="25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4157-1811-4FFD-BE67-22C4D7017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013440" y="2971800"/>
            <a:ext cx="3130560" cy="388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25E-CEE3-4C04-85AD-1F5A7D497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" descr=""/>
          <p:cNvPicPr/>
          <p:nvPr/>
        </p:nvPicPr>
        <p:blipFill>
          <a:blip r:embed="rId2"/>
          <a:stretch/>
        </p:blipFill>
        <p:spPr>
          <a:xfrm>
            <a:off x="0" y="2809800"/>
            <a:ext cx="6324480" cy="404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820B-90FD-4F39-AD52-3DDBB8E70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191B-2045-45FD-A620-A01756A1E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5943600" y="4087800"/>
            <a:ext cx="3200400" cy="2770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59880" y="4419720"/>
            <a:ext cx="1284120" cy="1963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952-0F0A-47DB-9BF9-F32C5BCF662C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38AF-8B4A-41F7-9A33-C239FC3CA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3733920" y="1700280"/>
            <a:ext cx="5410080" cy="51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252440"/>
            <a:ext cx="3700440" cy="5605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rcRect l="40891" t="0" r="0" b="0"/>
          <a:stretch/>
        </p:blipFill>
        <p:spPr>
          <a:xfrm>
            <a:off x="7872480" y="4114800"/>
            <a:ext cx="127152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538-CD0D-4057-AC29-686BF9B63D19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228600" y="2895480"/>
            <a:ext cx="3727440" cy="3962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178840" y="4038480"/>
            <a:ext cx="965160" cy="23288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851A-CCAF-4161-A01C-F7F894C2EA62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019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1252440"/>
            <a:ext cx="2324160" cy="56055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7886880" y="4876920"/>
            <a:ext cx="1257120" cy="1981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A23-5CFA-4C54-9C65-626ACF789BC5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ShMA85pv8M" TargetMode="External"/><Relationship Id="rId2" Type="http://schemas.openxmlformats.org/officeDocument/2006/relationships/slideLayout" Target="../slideLayouts/slideLayout3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1981080" y="609480"/>
            <a:ext cx="5214960" cy="199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UN WITH PUNS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376360" y="3108240"/>
            <a:ext cx="439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PUNNY STO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8" name=""/>
          <p:cNvSpPr/>
          <p:nvPr/>
        </p:nvSpPr>
        <p:spPr>
          <a:xfrm>
            <a:off x="5791320" y="4495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how presentation retrieved from: www.slideshare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23B40-5FB9-415D-86EE-10D31799696E}" type="slidenum">
              <a:t>1</a:t>
            </a:fld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3200400" y="205740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used to be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ac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but found I didn't have enough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762120" y="1066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ext was a job in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sho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factory; I tried but I just didn’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f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3EAF6-B431-4C06-9C91-F884A59DB33A}" type="slidenum">
              <a:t>11</a:t>
            </a:fld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4267080" y="167652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Next, I found being a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electricia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interesting, but the work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shock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762120" y="7621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d worked in 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come Tax Depart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but it was just too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x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A6C0BB-414A-4CCF-A85E-041ECA65FE87}" type="slidenum">
              <a:t>13</a:t>
            </a:fld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99072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used to be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but I didn't make enoug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oug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609480" y="160020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last job was as a professional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isherm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but discovered that I couldn’t live on m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n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383684-DB06-4006-950B-965AF74B5027}" type="slidenum">
              <a:t>15</a:t>
            </a:fld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ns are Fu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bbott and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DBEAE7-B8BC-4ED7-A3A4-A389791A7B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4495680" y="167652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first job was working in a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range jui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actory, but I go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n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couldn’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entrat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57200" y="4572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n I worked in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od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s 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umberjac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but I just couldn’t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c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it, so they gave me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x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5C74A-7399-4EE9-A088-E88B9BEF5C27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2895480" y="685800"/>
            <a:ext cx="3124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 managed to get a good job working for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poo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maintenance company, but the work was just too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drain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503DB-CB64-439F-89EC-18D2E1B5623F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4419720" y="1295280"/>
            <a:ext cx="41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 that I tried to be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l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but I just wasn’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i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or it. Mainly because it was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-s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85800" y="6094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xt I tried working in a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uffl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actory but that was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exhaust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6F2F7-BB64-4978-9A32-ABB8DB5275FE}" type="slidenum">
              <a:t>6</a:t>
            </a:fld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4495680" y="198108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wanted to be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rb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but I just did not have the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for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533520" y="609480"/>
            <a:ext cx="335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n I tried to be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e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figured it would add a littl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pi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my life but I just didn’t have 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y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C556A-7E6D-4A9D-9AAD-62C04904783E}" type="slidenum">
              <a:t>8</a:t>
            </a:fld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5c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33520" y="838080"/>
            <a:ext cx="32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tudied a long time to become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ct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but I didn’t have an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ti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594A6A-9205-482D-AF76-FA1530430087}" type="slidenum">
              <a:t>9</a:t>
            </a:fld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44:11Z</dcterms:created>
  <dc:creator>VISTA</dc:creator>
  <dc:description/>
  <dc:language>en-US</dc:language>
  <cp:lastModifiedBy>Justin Heyd</cp:lastModifiedBy>
  <dcterms:modified xsi:type="dcterms:W3CDTF">2010-12-09T07:06:5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